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1532-7665-4D18-9F34-2D8E5D303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D46A3-558A-4508-B0D2-CF5FA235C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FA3B-692A-46EE-982F-78E52E1F5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3C2B-9ED7-406B-9985-C387EFF9E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F810-D50A-41ED-B2D9-8309431948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FD69-2129-4545-BCC1-17DCB79E71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A42B-F910-438A-B662-1086EF0628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60BE-A82C-4D24-B5AB-B19FEBB6F4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C756-8EE0-400A-AF7C-10E0DCD552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ECC88-2808-4A43-ABFF-AECC4671D7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6A492-D5BC-4F52-ABF4-778286AC6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F1F5-B009-40C9-B4C6-F8B33249C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62589-CD1F-42D8-8927-5490E8C5C3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883B-0B34-4D9D-9928-DA1B5F996E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1B9E-44B6-406F-B722-795063DFEF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AB65-A5D8-48E3-8FB2-35FF662036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6E49-E000-4A1F-AAA3-20B1039531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065-3E60-4950-8F63-1771D3727B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952-EA44-499B-8E05-9EDEBB3DED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8303-D220-4273-ADFB-814EE69CF1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2D43-A355-45BE-A66F-21C307D95D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290-8AD5-4BCF-960E-DF1C66605C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AC63-2D37-400A-AE4C-CD6D8437E3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82A-35A2-44C8-8693-BCBBF8F520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4CB1-B83F-47B0-87A5-6FF9359FE1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96C-A877-4F38-A987-B1961CE32A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38B-79A2-49D7-9E98-C24C54FC71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893-5298-4753-BD20-04E90B75A3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BFA-D253-4829-AB21-D831956969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93CE-7F00-4607-AEE2-AD50580964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71435-DA17-4606-86F8-CEDAB0395F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9C7CB-B8CE-430B-93DE-12D7CEC3C52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66102-6CDD-47B8-AE25-223ACD67F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AE3C-6FB5-4AEB-A65F-6ADCFF354E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0541E-2275-49A6-BCB8-A6B5CA7FF0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6837F-8D19-481B-86FE-2171F44237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88820-6032-4CB7-99D2-BD674C2F24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D429C-216C-4AFA-9440-2478AB0B1F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BE1DB-7AF5-4176-9429-7D979998F0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C429F-B73B-4F44-9717-96B1018FF8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8065D-28B2-416A-8DAD-534DBB2EE1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ABDC2-25DC-4F61-B06A-FD4847A4C3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D0E06-2713-4F53-9A51-8A986849FE8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17986-DBE6-468F-B865-A6C7917A2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F987-41F1-43C1-A1A5-5A0052F21BF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2BE2E-3414-4D03-91D7-040314D7CB9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ABFB1-2825-4254-BB6D-F4F920D845B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7D2EF-1F02-4071-B328-EA7FE7E87E6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71386-E412-4773-A191-43637827813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80B70-1C62-49E2-86A1-4DCA50A6EF9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0CDF3-267C-44FA-AF7F-7C6B16C1BCE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21A00-FCEF-4A60-955C-AE23D77526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C9197-320B-4C28-A61C-048F4A8CDE5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62FF0-4433-43FC-BBB3-62F61ABFA52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E3511-E291-4D4F-8A62-9F778A769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95AE-FA22-464D-8288-85675ED1D5C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91EFF-AD1A-4968-BE16-C207453E728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B77F-522F-4143-9B79-1963EBE17A6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9007-4ED1-4E07-91FB-62CAEC35AE9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2C8F-34A1-447E-B6A4-9FFA1EABCF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7258-9357-4805-B706-CC7C7A8984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5531-3444-4F48-87FE-D871D21B905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2526-805D-44A4-914A-2C184B1686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B3E3-815B-4E26-8A26-595C1763A1F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90ED-393B-42DD-BDF6-9033F14C127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DDAE-43EC-45A1-B3B7-BB17A4C6C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5246-B3DF-40CE-BD56-D1B71CCAC01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189C-7C62-492E-9366-80D0846C998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27B0-951A-4EF8-B5A6-BD29309BEAD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0A72-A9C4-4F4B-9B8D-B46C38B8D89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44B151-784B-4482-8C6B-16C7138E1DC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E2AC7-3885-47F6-A2F9-515F1BCF6CF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EB24A2-68D2-48C8-9D13-38B2871A163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D30C4-96D1-4DB4-9A30-34B14D9A942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ED37A1-0A6E-4804-AC7F-5032ABA1AA3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20B913-A77D-4A82-BE8C-26581C50E2D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18B22F-7083-49E3-9153-3EBFDD5BE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01D6-1251-4FC2-AB4D-A90C37E8B72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C9E368-371D-4109-8824-7063577AADC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91316-1A89-4A64-9EC7-6AE2C2C66DF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B8D35A-F648-4EAC-909C-0C7CA045623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273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09D472-8A47-493F-9750-471972FFC5D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2739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ADA201-99CF-407F-A189-4C6CAC3A8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2739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AEE8E-C26D-46F0-A35E-9128E9B44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57780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4284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175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9220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28040" y="6244920"/>
            <a:ext cx="3715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10B0-FDB3-4542-AD59-1F7ADD036691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62360" y="6248520"/>
            <a:ext cx="2826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3081-993A-42CB-8132-74F91055EA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57780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4284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175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9220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Num" idx="3"/>
          </p:nvPr>
        </p:nvSpPr>
        <p:spPr>
          <a:xfrm>
            <a:off x="8528040" y="6244920"/>
            <a:ext cx="3715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457C-BEF6-4121-89CB-23886542F0E1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8" name="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57780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4284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175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9220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4"/>
          </p:nvPr>
        </p:nvSpPr>
        <p:spPr>
          <a:xfrm>
            <a:off x="8528040" y="6244920"/>
            <a:ext cx="3715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390A-3893-4A04-8A59-EC90897A66AD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57780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4284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175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9220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5"/>
          </p:nvPr>
        </p:nvSpPr>
        <p:spPr>
          <a:xfrm>
            <a:off x="8528040" y="6244920"/>
            <a:ext cx="3715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F96B-DA28-4308-97E8-A897182D2AE3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57780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4284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175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9220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6"/>
          </p:nvPr>
        </p:nvSpPr>
        <p:spPr>
          <a:xfrm>
            <a:off x="8528040" y="6244920"/>
            <a:ext cx="3715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6573-8F13-4188-8AFE-0A144F50EECB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12840" indent="-273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57780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94284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12175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149220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149220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Lucida Grande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Lucida Gran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7"/>
          </p:nvPr>
        </p:nvSpPr>
        <p:spPr>
          <a:xfrm>
            <a:off x="8528040" y="6244920"/>
            <a:ext cx="3715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60B2-0022-4F1F-8A84-0B24E11C3F96}" type="slidenum">
              <a:rPr b="0" lang="en-US" sz="1600" spc="-1" strike="noStrike">
                <a:solidFill>
                  <a:srgbClr val="fefac9"/>
                </a:solidFill>
                <a:latin typeface="Lucida Grande"/>
                <a:ea typeface="Lucida Gran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7" name="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8" name="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round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3700080"/>
            <a:ext cx="8305920" cy="31575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9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fac9"/>
                </a:solidFill>
                <a:latin typeface="Lucida Grande"/>
              </a:rPr>
              <a:t>1250-1522 A.D.</a:t>
            </a:r>
            <a:endParaRPr b="0" lang="en-US" sz="44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77360" y="444240"/>
            <a:ext cx="4038840" cy="6413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cc"/>
                </a:solidFill>
                <a:latin typeface="Lucida Grande"/>
              </a:rPr>
              <a:t>Religion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Polytheistic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hief god was Huitzilopochtli, the sun God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Grande"/>
              </a:rPr>
              <a:t>Fought with darkness each night to raise the sun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Grande"/>
              </a:rPr>
              <a:t>No promise the sun would win and rise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Grande"/>
              </a:rPr>
              <a:t>Sacrifice ensured sun would rise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181480" y="1143000"/>
            <a:ext cx="3125880" cy="49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Human sacrifice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About 20,000 per year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Mostly prisoners of war, some slaves, some nobles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Constant warfare necessary to have enough prisoners of war around to sacrifice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04560" y="291600"/>
            <a:ext cx="8381880" cy="65660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dcc"/>
                </a:solidFill>
                <a:latin typeface="Lucida Grande"/>
              </a:rPr>
              <a:t>Social Classes</a:t>
            </a:r>
            <a:endParaRPr b="0" lang="en-US" sz="27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Emperor</a:t>
            </a:r>
            <a:endParaRPr b="0" lang="en-US" sz="27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Nobles</a:t>
            </a:r>
            <a:endParaRPr b="0" lang="en-US" sz="27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Priests who appointed King and conducted rituals</a:t>
            </a:r>
            <a:endParaRPr b="0" lang="en-US" sz="27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Merchants: </a:t>
            </a:r>
            <a:endParaRPr b="0" lang="en-US" sz="27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Carried goods on their backs by a strap over their foreheads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Traded by feet or by small boat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Also served as spies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Commoners who farmed land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Warriors who could rise in status by capturing and killing enemies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Landless peasants wandered in search of work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Slaves were mostly prisoners of war and criminals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Could own land</a:t>
            </a:r>
            <a:endParaRPr b="0" lang="en-US" sz="28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Could buy freedom</a:t>
            </a:r>
            <a:endParaRPr b="0" lang="en-US" sz="2800" spc="-1" strike="noStrike">
              <a:solidFill>
                <a:srgbClr val="fefac9"/>
              </a:solidFill>
              <a:latin typeface="Lucida Grande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86920" y="329760"/>
            <a:ext cx="4178520" cy="64897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dcc"/>
                </a:solidFill>
                <a:latin typeface="Lucida Grande"/>
              </a:rPr>
              <a:t>Achievements-Calendar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0b00"/>
                </a:solidFill>
                <a:latin typeface="Lucida Grande"/>
              </a:rPr>
              <a:t>365 day calendar and a 260 day ritual calendar</a:t>
            </a:r>
            <a:br>
              <a:rPr sz="2900"/>
            </a:br>
            <a:r>
              <a:rPr b="0" lang="en-US" sz="2900" spc="-1" strike="noStrike">
                <a:solidFill>
                  <a:srgbClr val="d90b00"/>
                </a:solidFill>
                <a:latin typeface="Lucida Grande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0b00"/>
                </a:solidFill>
                <a:latin typeface="Lucida Grande"/>
              </a:rPr>
              <a:t>Calculates the end of the world as December 21, 2012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686480" y="1817640"/>
            <a:ext cx="405900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75840" y="177840"/>
            <a:ext cx="414036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cc"/>
                </a:solidFill>
                <a:latin typeface="Lucida Grande"/>
              </a:rPr>
              <a:t>End of Aztec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Spanish came in 1519 A.D. search of Gold, God, and Glory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Led by Hernan Cortes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Aztec thought Cortes was the god Quetzalcoatl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48320" y="2405160"/>
            <a:ext cx="405900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405936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0b00"/>
                </a:solidFill>
                <a:latin typeface="Lucida Grande"/>
              </a:rPr>
              <a:t>Emperor Montezuma II (Moctezuma II) taken hostage and neighboring tribes joined Spanish</a:t>
            </a:r>
            <a:br>
              <a:rPr sz="2900"/>
            </a:br>
            <a:r>
              <a:rPr b="0" lang="en-US" sz="2900" spc="-1" strike="noStrike">
                <a:solidFill>
                  <a:srgbClr val="d90b00"/>
                </a:solidFill>
                <a:latin typeface="Lucida Grande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90b00"/>
                </a:solidFill>
                <a:latin typeface="Lucida Grande"/>
              </a:rPr>
              <a:t>3/4 of all Aztecs died from war and disease (Small Pox and Plague)</a:t>
            </a:r>
            <a:endParaRPr b="0" lang="en-US" sz="29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4191120" y="2057400"/>
            <a:ext cx="4363920" cy="37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934320" y="6324480"/>
            <a:ext cx="228600" cy="2286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82" name=""/>
          <p:cNvSpPr/>
          <p:nvPr/>
        </p:nvSpPr>
        <p:spPr>
          <a:xfrm>
            <a:off x="-139680" y="1905120"/>
            <a:ext cx="916956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80000"/>
              </a:lnSpc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Conquistadors:</a:t>
            </a:r>
            <a:endParaRPr b="0" lang="en-US" sz="3400" spc="-1" strike="noStrike">
              <a:solidFill>
                <a:srgbClr val="ffffff"/>
              </a:solidFill>
              <a:latin typeface="Lucida Grande"/>
            </a:endParaRPr>
          </a:p>
          <a:p>
            <a:pPr marL="39600" algn="ctr">
              <a:lnSpc>
                <a:spcPct val="80000"/>
              </a:lnSpc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Spanish soldiers who came to the New World to help conquer and settle the Americas for Spain.</a:t>
            </a:r>
            <a:endParaRPr b="0" lang="en-US" sz="3400" spc="-1" strike="noStrike">
              <a:solidFill>
                <a:srgbClr val="ffffff"/>
              </a:solidFill>
              <a:latin typeface="Lucida Grande"/>
            </a:endParaRPr>
          </a:p>
          <a:p>
            <a:pPr marL="39600" algn="ctr">
              <a:lnSpc>
                <a:spcPct val="80000"/>
              </a:lnSpc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ome of their methods were harsh and brutal especially to the Native American population.</a:t>
            </a:r>
            <a:endParaRPr b="0" lang="en-US" sz="3400" spc="-1" strike="noStrike">
              <a:solidFill>
                <a:srgbClr val="ffffff"/>
              </a:solidFill>
              <a:latin typeface="Lucida Grande"/>
            </a:endParaRPr>
          </a:p>
          <a:p>
            <a:pPr marL="39600" algn="ctr">
              <a:lnSpc>
                <a:spcPct val="80000"/>
              </a:lnSpc>
              <a:spcBef>
                <a:spcPts val="1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With every Spanish explorer were conquistadors and members of the Catholic Church to convert Native Americans.</a:t>
            </a:r>
            <a:br>
              <a:rPr sz="3400"/>
            </a:br>
            <a:r>
              <a:rPr b="0" lang="en-US" sz="3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endParaRPr b="0" lang="en-US" sz="34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600200" y="1366920"/>
            <a:ext cx="5943600" cy="4886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128520" y="146160"/>
            <a:ext cx="8564760" cy="1231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33920" y="2819520"/>
            <a:ext cx="2692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&lt;- LAKE TEXCOCO</a:t>
            </a:r>
            <a:endParaRPr b="0" lang="en-US" sz="18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10960" y="520560"/>
            <a:ext cx="4305600" cy="63374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cc"/>
                </a:solidFill>
                <a:latin typeface="Lucida Grande"/>
              </a:rPr>
              <a:t>Aztec Location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Located in the Valley of Mexico around Lake Texcoco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Grande"/>
              </a:rPr>
              <a:t>Legend said find a cactus with a bird perched that had a snake in its  mouth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Land dry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90b00"/>
                </a:solidFill>
                <a:latin typeface="Lucida Grande"/>
              </a:rPr>
              <a:t>Aztecs shifted from hunting to farming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876920" y="762120"/>
            <a:ext cx="34495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Capital city Tenochtitlán – present day Mexico city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efac9"/>
                </a:solidFill>
                <a:latin typeface="Lucida Grande"/>
              </a:rPr>
              <a:t>Located in the middle of a lake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efac9"/>
                </a:solidFill>
                <a:latin typeface="Lucida Grande"/>
              </a:rPr>
              <a:t>Linked to mainland by strips of land</a:t>
            </a:r>
            <a:endParaRPr b="0" lang="en-US" sz="2700" spc="-1" strike="noStrike">
              <a:solidFill>
                <a:srgbClr val="fefac9"/>
              </a:solidFill>
              <a:latin typeface="Lucida Grande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324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405936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Teotihuacán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Dominated the Valley of Mexico from 100-750 A.D.</a:t>
            </a:r>
            <a:endParaRPr b="0" lang="en-US" sz="2800" spc="-1" strike="noStrike">
              <a:solidFill>
                <a:srgbClr val="fefac9"/>
              </a:solidFill>
              <a:latin typeface="Lucida Grande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191120" y="1981080"/>
            <a:ext cx="447192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29760" y="507600"/>
            <a:ext cx="835668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d99"/>
                </a:solidFill>
                <a:latin typeface="Lucida Grande"/>
              </a:rPr>
              <a:t>Government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Lucida Grande"/>
              </a:rPr>
              <a:t>One king/emperor who ruled over all – chosen by a council of nobles and priests</a:t>
            </a:r>
            <a:br>
              <a:rPr sz="3000"/>
            </a:br>
            <a:r>
              <a:rPr b="0" lang="en-US" sz="3000" spc="-1" strike="noStrike">
                <a:solidFill>
                  <a:srgbClr val="d90b00"/>
                </a:solidFill>
                <a:latin typeface="Lucida Grand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Lucida Grande"/>
              </a:rPr>
              <a:t>Nobles served as judges, officials, and governors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lvl="2" marL="1044720" indent="-228600">
              <a:lnSpc>
                <a:spcPct val="100000"/>
              </a:lnSpc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Wore elaborate gold jewelry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Lucida Grande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Lucida Grande"/>
              </a:rPr>
              <a:t>Most crimes punishable by death or being sold into slavery </a:t>
            </a:r>
            <a:endParaRPr b="0" lang="en-US" sz="30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90080" y="228240"/>
            <a:ext cx="8496360" cy="6629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Lucida Grande"/>
              </a:rPr>
              <a:t>Economy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Based on agriculture</a:t>
            </a:r>
            <a:br>
              <a:rPr sz="2800"/>
            </a:b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Farming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Lucida Grande"/>
              </a:rPr>
              <a:t>Filled in lakes and made channels for irrigation</a:t>
            </a:r>
            <a:endParaRPr b="0" lang="en-US" sz="2800" spc="-1" strike="noStrike">
              <a:solidFill>
                <a:srgbClr val="fefac9"/>
              </a:solidFill>
              <a:latin typeface="Lucida Grande"/>
            </a:endParaRPr>
          </a:p>
          <a:p>
            <a:pPr lvl="1" marL="679320" indent="-272880">
              <a:lnSpc>
                <a:spcPct val="10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Lucida Grande"/>
              </a:rPr>
              <a:t>Grew corn, squash, and beans</a:t>
            </a:r>
            <a:endParaRPr b="0" lang="en-US" sz="2800" spc="-1" strike="noStrike">
              <a:solidFill>
                <a:srgbClr val="fefac9"/>
              </a:solidFill>
              <a:latin typeface="Lucida Gran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12840" indent="-27324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Lucida Grande"/>
              </a:rPr>
              <a:t>Aztecs conquered others and made them pay tribute, or money paid by conquered people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525920" y="914400"/>
            <a:ext cx="4008600" cy="539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orie Tucker</dc:creator>
  <dc:description/>
  <dc:language>en-US</dc:language>
  <cp:lastModifiedBy/>
  <cp:revision>0</cp:revision>
  <dc:subject/>
  <dc:title>Aztec Civilization</dc:title>
</cp:coreProperties>
</file>